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A68D-1D6E-4ACE-BC3B-720361CC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AA70-88B9-40AF-8C99-D9733E77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201B92-DE33-4955-B0F5-207B0C26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71A51E-D238-4446-AD32-A45FB218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DFBE3A-1210-4BAC-8842-06BAC7E3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06D4F4-1DEE-4489-88EF-FFDDB5EE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669930-4845-48F0-8215-8B016EE3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9B897B-77CC-45A0-A4B2-37B88B02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DEB622-075A-4399-B8C0-8EFCCFD7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2F1F74-5818-4FCB-8CD0-A64CE415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FB12B-A73C-4C9B-8EFD-0BF4BC4A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A739D1-DA9D-4D3B-9AB6-0B725CAA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60F1-DD34-406A-8568-2411E9E6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A33630-2A3D-4C9B-821B-4BE8DF5A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9304F9-D6B2-4F32-A272-0F156C90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FB1346-9578-4F60-97DA-60C7D526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012759-9F4D-4034-8101-A0175EA9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969502-4CCC-4A61-BFD3-17190A75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3F8B06-86BF-4671-9A79-09198F6A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534FD6-9C57-46B3-B00A-429332E2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2D7A99-556A-44B4-B6EB-4A956506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8D1AA9-81BC-430D-9EDB-0D9A9172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E493B2-D07D-49A8-BA71-7770FC23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7ACE-2F96-44F4-86D2-9DD69FD3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C145BA-9401-4B4E-9EF2-805F6173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BA955-47B1-4CC4-AD73-DFF230C6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5F5D0-555B-4C2F-BD00-E05AF3A5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D58D7-B3A3-4EE3-868F-A5ACC5BC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0092B-1776-4E6F-BCC1-1B4AEA4F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29C81-E3C4-42F6-9914-EC8A9569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13709-1317-42D8-AB27-659AAC8F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55437-D7BD-4230-8343-BA4ECC65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775AF-7E6A-46C7-9A1B-29A484F3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90C45-0017-440D-981E-E3386732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38C0-79F2-41C3-ADD3-CBA24873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BE952-6598-458D-8970-CCE34C0A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E5CC3-D1A2-4FB9-968E-2C25EAB5F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48B6C-AF60-4E69-98FA-1A5D5C6C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2BDA7C-08CA-426E-93A3-E69D2BF0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25E232-C4AD-4675-B7B7-5C43ACC2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F6040E-97A0-4A2B-AF71-7498723E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FC8E51-BF73-4EFE-B292-2120F33D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BDDBEE-5FF8-4EB3-9B34-598889B9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20BDC3-3F4D-4BF4-A5B6-6A143EE0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D51B82-7FCA-438F-B4E2-F6698D11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FAD4-2DAE-4A5A-8AD8-51598D27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05E703-1EDC-43F5-A483-DDFD6156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AFB214-B192-4EA4-98AA-13D1C2A8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9AF726-0E1D-4645-92F5-11F0FF58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5A3294-DB8C-45CB-ADD1-BD1C9C15E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42A2A6-B14E-4219-AA62-059BC154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3BC4-C93F-43EA-B555-E661676D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85F3-A3B3-4542-ABAD-3DC30590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85B6-85A5-4F47-8D7D-F277930D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E634-6964-4082-9615-3AC5AC5D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654A-5CCF-47F4-9A9F-0B053330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EBE7-4AE0-4733-BD56-A0F11A56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FE67-CF67-49F6-97F0-7B1BCEA8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9F3F-53ED-4828-99B3-9D973858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8906-8124-4352-8D33-3C8810B8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3A63-3275-4DA8-AFF4-E17CF5C7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93D6-5B54-4765-BC6A-9F6AAACB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E68D0-BED1-44AA-8D13-732A1C3A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E7627-DA0F-4C17-ABB2-BB120BCA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3B8AB-9EC7-469F-83D8-9D7ACFD0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53FCB-C004-4A10-BAFC-25F9E5F5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1AF83-F564-4A80-808D-BDFECDE5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F84C-DE94-46F7-AF2F-4B8B3092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9BCC5-99ED-4CD3-829C-67E75241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1BEB6-7057-460F-9ED6-8533FE55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C0DF4-BF8A-4F6F-9524-FCF8DD1E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3E479-452E-40E1-A116-B6D12BF4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EC4D0-CA7D-4348-9440-CE1E5D7B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2B654-EF23-4EE6-83E8-B2F2CFF6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1FA0A-D350-4BAD-AA20-C109251F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658E1-C107-4961-A1EC-F2E13FD8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D9AD7-FA74-4821-9525-916A70A3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7043E-F807-4B02-A39D-BF34C06A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8DD0-45CF-474C-BC24-41F6F3BB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368FE-4F1B-4147-A07C-3F7755AB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D71D7-3738-4CD1-AC19-533102EC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3079C-7F30-468D-8CAA-F8CE08D8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21951-23A5-4558-870F-438537D4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D8A2E-5C8C-4E71-B0FB-AD97C611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C6D5A-5469-452E-94D3-386D03B6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E13D6-AF67-4C74-93A5-F47697C9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D6A77-5C8F-43CB-ADD2-425DDAE4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77DCA-AE22-4BB7-AA26-23B5AA87A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C4199-F9F4-49FA-8188-8B67081C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C1A4-0878-4CB2-BB85-226488C9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A1804-75B9-4987-9104-6380BB60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63F99-6B1D-4BF7-AD10-38EF7F71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4100B-3A7F-4ACE-B2FC-ED4F669A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DF3B6-AEA6-4497-867F-D02C3EBC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D2FAB-8680-4B18-B92E-BBD42DD4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9C83E-289F-48E3-981E-3978BD78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446E6-1EAF-46CD-B196-E9E9CC52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9F515-89A9-49CD-9C8F-CEB5B692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847D8-5F8B-470D-B318-49D874F6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A22FB-7A82-4232-9D12-5C36A726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215F-D508-4FAA-9DC8-72E678D91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9B953-EAE3-4764-B761-1727E6D0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E602B-E746-4A44-B781-4DD34E8F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19007-BDEF-4B9F-861D-14D99942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78540-B0FA-434A-8563-9806DE32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5A03E-D243-4B7E-AE89-2D31E341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FF626-5B93-450F-A374-102AE088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D869B-533E-4236-B17F-0487847D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1AAAF-3BC4-4BB5-92B3-7F5AD11D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C259B-4709-403F-99C9-FFFCA550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CDAB4-ECA3-445A-B0AD-0D416D75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16DE-AA0F-4B20-A121-219795D1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0FFC9-0925-4662-96B9-CA63A467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0934C-4657-4AF3-9149-62033354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77B96-E035-499D-A15A-17320EA4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3845D-0E32-4FF9-9ACF-030D9BF4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DDC86-F375-4223-BEE1-C50656B5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928D2-6293-4578-A5E8-215CAD0C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DC145-36AA-4DA4-9648-ACC8FA37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468AE-B92A-49C0-ABB9-C3362337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06310-BB58-4078-B73D-9B867D83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05ADC-55EA-4856-BF84-670104C4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D52D-D5B6-4466-B093-740586A4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0E42F-2FB7-46F6-B330-CE6DA7B9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83C7F-E045-439E-B17A-24595705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AF690-C514-4EDF-A739-5E97D0DA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F2FCD-C69C-4723-BD22-1A81D133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CEBE8-5C6A-48E4-940F-5028FC58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A4EC7-5F58-4E65-9E21-AE150E9E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8803A-9294-4560-81C2-551AB863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4A727-8B3A-4617-B59D-4FE8ACF6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F11D2-5C97-415C-BF90-F9A6231F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EA2B1-BB46-4848-BBAB-7E3451C9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F0E4-5063-4602-A7B2-02A47382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AA1CB-3CC0-4297-9DDF-A966B0FD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46064-E8EB-451A-821A-A515D2AB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0694B-51AE-4AB5-8187-A9CB8E97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ACC29-B0C4-4B58-A344-69C40EC5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24853-ADD0-4396-80C3-D3730DAC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7B9AB-2232-45D3-8341-22729015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FFC88-A353-4ADE-86E5-B62AA8A8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62BBCD-3B34-4A5E-AD5C-9733697B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816023-92A7-4C83-A38A-A62E05E0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039000-FBE6-4AB7-B0FB-60127FF3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82E9-7660-4E24-B9CF-A4AB93F32505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2E3B-BEC5-492B-A56F-B2E37142D887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3061-C12F-411C-A12B-7EC6B1039814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9417-AD3C-4F3E-891B-C7B9CAEAF3EF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20DD-8E2C-4495-A638-AB4F1E6CDF12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C4A9-5983-417F-BA01-BCD49C94D66C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ED50-7661-40C7-8EB6-EF6EC0C788EA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00A0-AFFE-470C-9359-B8A214E85B3F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01C3-9740-407C-B701-755D4EBB690B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0479-276A-4562-AEB3-F2C3AA922152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9E78-FFB7-4D77-A2BC-9113F3E9B96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CB0C-1EF7-43DA-B2B2-55FC9FAA830C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io.1september.ru/2003/42/11.gif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bio.1september.ru/2003/42/9.gif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3124080" y="685800"/>
            <a:ext cx="563904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ВИДА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олог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124080" y="685440"/>
            <a:ext cx="563904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 на том, что два вида не могут занимать одну экологическую нишу. Следовательно, каждый вид характеризуется своими собственными отношениями со средой обитания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Текст 2"/>
          <p:cNvSpPr/>
          <p:nvPr/>
        </p:nvSpPr>
        <p:spPr>
          <a:xfrm>
            <a:off x="250920" y="3357720"/>
            <a:ext cx="252864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соби одного вида могут жить в несколько различающихся условиях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дуванчик может расти и в лесу, и на луг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{59CA379D-97F2-428B-889F-896C00A210DC}"/>
          <p:cNvPicPr/>
          <p:nvPr/>
        </p:nvPicPr>
        <p:blipFill>
          <a:blip r:embed="rId1"/>
          <a:stretch/>
        </p:blipFill>
        <p:spPr>
          <a:xfrm>
            <a:off x="5508720" y="3213000"/>
            <a:ext cx="3349440" cy="3191040"/>
          </a:xfrm>
          <a:prstGeom prst="rect">
            <a:avLst/>
          </a:prstGeom>
          <a:ln w="57240">
            <a:solidFill>
              <a:srgbClr val="04617b"/>
            </a:solidFill>
            <a:miter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85840" y="914400"/>
            <a:ext cx="24573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зиолог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24000" y="4292640"/>
            <a:ext cx="245736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Есть близкие виды, имеющие сходные процессы жизнедеятельност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132000" y="691920"/>
            <a:ext cx="563904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 на сходстве процессов жизнедеятельности и возможности получения плодовитого потомства при скрещивани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7" name="Picture 3" descr="C:\Documents and Settings\USER\Рабочий стол\урок\рисунки\горбуша.jpg"/>
          <p:cNvPicPr/>
          <p:nvPr/>
        </p:nvPicPr>
        <p:blipFill>
          <a:blip r:embed="rId1"/>
          <a:stretch/>
        </p:blipFill>
        <p:spPr>
          <a:xfrm>
            <a:off x="3059280" y="2276640"/>
            <a:ext cx="4213080" cy="20556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2" descr="C:\Documents and Settings\USER\Рабочий стол\урок\рисунки\кета.jpeg"/>
          <p:cNvPicPr/>
          <p:nvPr/>
        </p:nvPicPr>
        <p:blipFill>
          <a:blip r:embed="rId2"/>
          <a:stretch/>
        </p:blipFill>
        <p:spPr>
          <a:xfrm>
            <a:off x="4716360" y="4276800"/>
            <a:ext cx="4213440" cy="208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тор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124080" y="685440"/>
            <a:ext cx="563904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 на изучении истории вида или группы видов. Этот критерий носит комплексный характер, поскольку включает сравнительный анализ современных ареалов видо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нет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2928960" y="685440"/>
            <a:ext cx="621504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 на явлении репродуктивной изоляци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buClr>
                <a:srgbClr val="04617b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ные сроки размножения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buClr>
                <a:srgbClr val="04617b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ное устройство половых аппаратов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buClr>
                <a:srgbClr val="04617b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оплодотворение произошло, то погибает зародыш или молодой организм рождается нежизнеспособны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buClr>
                <a:srgbClr val="04617b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гибрид жизнеспособен, то он неплодовит (примеры: лошак, мул, хонорик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3" name="Picture 2" descr="C:\Documents and Settings\USER\Рабочий стол\урок\рисунки\xonorik.jpg"/>
          <p:cNvPicPr/>
          <p:nvPr/>
        </p:nvPicPr>
        <p:blipFill>
          <a:blip r:embed="rId1"/>
          <a:stretch/>
        </p:blipFill>
        <p:spPr>
          <a:xfrm>
            <a:off x="6300720" y="4149720"/>
            <a:ext cx="2397240" cy="2117880"/>
          </a:xfrm>
          <a:prstGeom prst="rect">
            <a:avLst/>
          </a:prstGeom>
          <a:ln w="0">
            <a:noFill/>
          </a:ln>
        </p:spPr>
      </p:pic>
      <p:sp>
        <p:nvSpPr>
          <p:cNvPr id="654" name="Текст 2"/>
          <p:cNvSpPr/>
          <p:nvPr/>
        </p:nvSpPr>
        <p:spPr>
          <a:xfrm>
            <a:off x="179280" y="4005360"/>
            <a:ext cx="266400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Хонорик – гибрид, полученный в результате  скрещивания хорька и европейской но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13840" y="914400"/>
            <a:ext cx="2643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ирование выводов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916000" y="1052640"/>
            <a:ext cx="604836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ля того, чтобы определить принадлежность особи к какому-то виду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едостаточно одного критер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еобходимо учитывать совокупнос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ех критериев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Содержимое 3"/>
          <p:cNvSpPr/>
          <p:nvPr/>
        </p:nvSpPr>
        <p:spPr>
          <a:xfrm>
            <a:off x="2916360" y="2349360"/>
            <a:ext cx="60483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576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довые критерии, по которым отличается один вид от другого, в совокупности обусловливают генетическую изоляцию видов, обеспечивая самостоятельность каждого вида и разнообразие их в приро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Содержимое 3"/>
          <p:cNvSpPr/>
          <p:nvPr/>
        </p:nvSpPr>
        <p:spPr>
          <a:xfrm>
            <a:off x="2916360" y="4005360"/>
            <a:ext cx="60483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indent="17820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т ни одного видового критерия, который можно было признать абсолютным и универсальн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Содержимое 3"/>
          <p:cNvSpPr/>
          <p:nvPr/>
        </p:nvSpPr>
        <p:spPr>
          <a:xfrm>
            <a:off x="2916360" y="5013360"/>
            <a:ext cx="6048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576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д представляет собой генетически относительно изолированную систему, что доказывает реальность существования видов в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2737080" cy="15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абораторная работ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Изучение морфологического критерия вида»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2842920" y="1341360"/>
            <a:ext cx="604836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Ь: составить морфологическую характеристику двух растений одного рода, сравнить их и сделать вывод о причинах сходства и различ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ОРУДОВАНИЕ: живые растения, гербарные материалы (рисунки как дополнительный источник информации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2737080" cy="15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абораторная работ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Изучение морфологического критерия вида»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2987640" y="1125360"/>
          <a:ext cx="5870520" cy="4457880"/>
        </p:xfrm>
        <a:graphic>
          <a:graphicData uri="http://schemas.openxmlformats.org/drawingml/2006/table">
            <a:tbl>
              <a:tblPr/>
              <a:tblGrid>
                <a:gridCol w="3062160"/>
                <a:gridCol w="1440000"/>
                <a:gridCol w="136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МЕ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Е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Е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КОРНЕВОЙ СИС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ые, слож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жилк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ие на стеб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орасполо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Б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янистый, одревесневш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стоячий, стелющийся, цепляющийся, вьющий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ВЕ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тория введения термина «Вид»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13840" y="1981080"/>
            <a:ext cx="2643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987640" y="691920"/>
            <a:ext cx="5857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1782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ж. Рей (1686 г.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иболее мелкие совокупности организмов, тождественных морфологически, тождественно размножающихся и дающих потомство, сохраняющее эти свойств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Picture 5" descr="33_127_06"/>
          <p:cNvPicPr/>
          <p:nvPr/>
        </p:nvPicPr>
        <p:blipFill>
          <a:blip r:embed="rId1"/>
          <a:stretch/>
        </p:blipFill>
        <p:spPr>
          <a:xfrm>
            <a:off x="285840" y="2000160"/>
            <a:ext cx="2500200" cy="3816360"/>
          </a:xfrm>
          <a:prstGeom prst="rect">
            <a:avLst/>
          </a:prstGeom>
          <a:ln w="28440">
            <a:solidFill>
              <a:srgbClr val="dbf5f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11" name="Picture 6" descr="45_178"/>
          <p:cNvPicPr/>
          <p:nvPr/>
        </p:nvPicPr>
        <p:blipFill>
          <a:blip r:embed="rId2"/>
          <a:stretch/>
        </p:blipFill>
        <p:spPr>
          <a:xfrm>
            <a:off x="250920" y="1989000"/>
            <a:ext cx="2500200" cy="3929040"/>
          </a:xfrm>
          <a:prstGeom prst="rect">
            <a:avLst/>
          </a:prstGeom>
          <a:ln w="28440">
            <a:solidFill>
              <a:srgbClr val="dbf5f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12" name="Picture 5" descr="45_179"/>
          <p:cNvPicPr/>
          <p:nvPr/>
        </p:nvPicPr>
        <p:blipFill>
          <a:blip r:embed="rId3"/>
          <a:stretch/>
        </p:blipFill>
        <p:spPr>
          <a:xfrm>
            <a:off x="250920" y="1989000"/>
            <a:ext cx="2500200" cy="3929040"/>
          </a:xfrm>
          <a:prstGeom prst="rect">
            <a:avLst/>
          </a:prstGeom>
          <a:ln w="28440">
            <a:solidFill>
              <a:srgbClr val="dbf5f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13" name="Picture 5" descr="42_162"/>
          <p:cNvPicPr/>
          <p:nvPr/>
        </p:nvPicPr>
        <p:blipFill>
          <a:blip r:embed="rId4"/>
          <a:stretch/>
        </p:blipFill>
        <p:spPr>
          <a:xfrm>
            <a:off x="250920" y="1989000"/>
            <a:ext cx="2571480" cy="4000680"/>
          </a:xfrm>
          <a:prstGeom prst="rect">
            <a:avLst/>
          </a:prstGeom>
          <a:ln w="19080">
            <a:solidFill>
              <a:srgbClr val="dbf5f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14" name="Picture 10" descr="C:\Documents and Settings\USER\Рабочий стол\урок\mayr_90.JPG"/>
          <p:cNvPicPr/>
          <p:nvPr/>
        </p:nvPicPr>
        <p:blipFill>
          <a:blip r:embed="rId5"/>
          <a:stretch/>
        </p:blipFill>
        <p:spPr>
          <a:xfrm>
            <a:off x="250920" y="1989000"/>
            <a:ext cx="2571480" cy="4071960"/>
          </a:xfrm>
          <a:prstGeom prst="rect">
            <a:avLst/>
          </a:prstGeom>
          <a:ln w="0">
            <a:noFill/>
          </a:ln>
        </p:spPr>
      </p:pic>
      <p:sp>
        <p:nvSpPr>
          <p:cNvPr id="615" name="Содержимое 3"/>
          <p:cNvSpPr/>
          <p:nvPr/>
        </p:nvSpPr>
        <p:spPr>
          <a:xfrm>
            <a:off x="2916360" y="1773360"/>
            <a:ext cx="585792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рл Линней (1735 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ножество родственных и сходных по строению организмов, при размножении непрерывно воспроизводящих себе подоб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матривал виды как объективно существующие группы живых организмов, достаточно легко отличимые друг от друг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читал их неизменными, раз и навсегда созданными бог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Содержимое 3"/>
          <p:cNvSpPr/>
          <p:nvPr/>
        </p:nvSpPr>
        <p:spPr>
          <a:xfrm>
            <a:off x="2916360" y="3500280"/>
            <a:ext cx="5857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Ж.Б. Ламарк (1802 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иды постоянно изменяются, эволюционируют, поэтому реально в природе не существу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Содержимое 3"/>
          <p:cNvSpPr/>
          <p:nvPr/>
        </p:nvSpPr>
        <p:spPr>
          <a:xfrm>
            <a:off x="2916360" y="4365720"/>
            <a:ext cx="58579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арльз Дарв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иды реально существуют, но изменяются, т.е. относительно постоянны и являются результатом эволюционного разви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Содержимое 3"/>
          <p:cNvSpPr/>
          <p:nvPr/>
        </p:nvSpPr>
        <p:spPr>
          <a:xfrm>
            <a:off x="2987640" y="5157720"/>
            <a:ext cx="5857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рнст Майр (1942 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иологическая концепция вида: виды определяются не различием, а обособленностью, состоят из популяций, главным свойством вида является репродуктивная изоля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ение термина «Вид»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2987280" y="1557000"/>
            <a:ext cx="59641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 – исторически сложившаяся совокупность особей, обладающих наследственным сходством морфологических, физиологических и биохимических особенностей, свободно скрещивающихся и дающих плодовитое потомство, приспособленных к определенным условиям жизни и занимающих определенный ареал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ение термина «Популяция»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2987280" y="1557000"/>
            <a:ext cx="59641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ПУЛЯЦИЯ - совокупность особей того или иного вида, в течение большого числа поколений населяющих определенное пространство, внутри которого особи могут относительно свободно скрещиваться друг с другом, в то время как обмен особями с соседними популяциями в значительной мере затруднен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итерии вида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2987280" y="1341360"/>
            <a:ext cx="563868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ИТЕРИИ ВИДА – это признаки, по которым один вид можно отличить от другого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фологическ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зиологическ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нетическ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ографическ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торическ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79280" y="914400"/>
            <a:ext cx="2664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рфолог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2928960" y="685800"/>
            <a:ext cx="603576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 на существовании морфологических признаков, характерных для одного вида, но отсутствующих у других вид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5" descr="45_183"/>
          <p:cNvPicPr/>
          <p:nvPr/>
        </p:nvPicPr>
        <p:blipFill>
          <a:blip r:embed="rId1"/>
          <a:stretch/>
        </p:blipFill>
        <p:spPr>
          <a:xfrm>
            <a:off x="4140360" y="2708280"/>
            <a:ext cx="3421080" cy="3298680"/>
          </a:xfrm>
          <a:prstGeom prst="rect">
            <a:avLst/>
          </a:prstGeom>
          <a:ln w="19080">
            <a:solidFill>
              <a:srgbClr val="dbf5f9"/>
            </a:solidFill>
            <a:miter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13840" y="914400"/>
            <a:ext cx="27860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рфолог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85840" y="1981080"/>
            <a:ext cx="2457360" cy="13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уществуют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иды-двойник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6" descr="i?id=40698598&amp;tov=4"/>
          <p:cNvPicPr/>
          <p:nvPr/>
        </p:nvPicPr>
        <p:blipFill>
          <a:blip r:embed="rId1"/>
          <a:stretch/>
        </p:blipFill>
        <p:spPr>
          <a:xfrm>
            <a:off x="5500800" y="2928960"/>
            <a:ext cx="3446280" cy="3386160"/>
          </a:xfrm>
          <a:prstGeom prst="rect">
            <a:avLst/>
          </a:prstGeom>
          <a:ln w="57240">
            <a:solidFill>
              <a:srgbClr val="04617b"/>
            </a:solidFill>
            <a:miter/>
          </a:ln>
        </p:spPr>
      </p:pic>
      <p:pic>
        <p:nvPicPr>
          <p:cNvPr id="631" name="Picture 4" descr="i?id=9041691&amp;tov=7"/>
          <p:cNvPicPr/>
          <p:nvPr/>
        </p:nvPicPr>
        <p:blipFill>
          <a:blip r:embed="rId2"/>
          <a:stretch/>
        </p:blipFill>
        <p:spPr>
          <a:xfrm>
            <a:off x="3000240" y="642960"/>
            <a:ext cx="2857680" cy="2857320"/>
          </a:xfrm>
          <a:prstGeom prst="rect">
            <a:avLst/>
          </a:prstGeom>
          <a:ln w="57240">
            <a:solidFill>
              <a:srgbClr val="04617b"/>
            </a:solidFill>
            <a:miter/>
          </a:ln>
        </p:spPr>
      </p:pic>
      <p:sp>
        <p:nvSpPr>
          <p:cNvPr id="632" name=""/>
          <p:cNvSpPr/>
          <p:nvPr/>
        </p:nvSpPr>
        <p:spPr>
          <a:xfrm>
            <a:off x="2987640" y="4292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ха-журчалка и 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ограф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2928960" y="685800"/>
            <a:ext cx="583416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 на том, что каждый вид занимает определенную территорию (или акваторию) – географический ареал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Picture 10" descr="Картинка 1 из 3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221000"/>
            <a:ext cx="3024360" cy="2143440"/>
          </a:xfrm>
          <a:prstGeom prst="rect">
            <a:avLst/>
          </a:prstGeom>
          <a:ln w="57240">
            <a:solidFill>
              <a:srgbClr val="04617b"/>
            </a:solidFill>
            <a:miter/>
          </a:ln>
        </p:spPr>
      </p:pic>
      <p:pic>
        <p:nvPicPr>
          <p:cNvPr id="636" name="Picture 8" descr="Картинка 1 из 38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59280" y="2708280"/>
            <a:ext cx="3024000" cy="2128680"/>
          </a:xfrm>
          <a:prstGeom prst="rect">
            <a:avLst/>
          </a:prstGeom>
          <a:ln w="57240">
            <a:solidFill>
              <a:srgbClr val="04617b"/>
            </a:solidFill>
            <a:miter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13840" y="914400"/>
            <a:ext cx="2529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ограф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13840" y="1981080"/>
            <a:ext cx="2643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 одном ареале могут жить особи разных видов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ареал распространения серебристой чайки и клуши-хохотунь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2" descr="C:\Documents and Settings\USER\Рабочий стол\урок\рисунки\ареал чайки.jpg"/>
          <p:cNvPicPr/>
          <p:nvPr/>
        </p:nvPicPr>
        <p:blipFill>
          <a:blip r:embed="rId1"/>
          <a:stretch/>
        </p:blipFill>
        <p:spPr>
          <a:xfrm>
            <a:off x="3000240" y="571680"/>
            <a:ext cx="5929560" cy="5808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3-04T16:06:17Z</dcterms:modified>
  <cp:revision>68</cp:revision>
  <dc:subject/>
  <dc:title>PowerPoint Presentation</dc:title>
</cp:coreProperties>
</file>